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ACADEMIC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: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r: Dusica Obradov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ing illness but still triggers..................body’s immune defenses against..................dis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ive immunization can be lifesaving when.................person has been infected with....................deadly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more vaccines are developed..................new generation of.....................combined vaccines are becoming available that will allow..................physician to administer...................single shot for.................multiple dis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ing po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immu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ccine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u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zation, also called vaccination or inoculation, is a method of stimulating resistance in the human body to specific diseases using microorganisms – bacteria or viruses – that have been modified or killed. These treated microorganisms do not cause the disease, but rather trigger the body’s immune system to build a defense mechanism that continuously guards against the disease. If a person immunized against a particular disease later comes into contact with the disease-causing agent, the immune system is immediately able to respond defensively. Immunization has dramatically reduced the incidence of a number of deadly disease. For example, a worldwide vaccination program resulted in the global eradication of small pox in 1980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t of the lesson can be found in the textbook “English for Students of Medicine” by Dusica Laz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 to reme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a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phth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omyel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emophilus influenz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llow f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u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b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hoid f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on and discussion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you define immuniz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two approaches to immunization have scientists develop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active components of the vaccin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active immu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type of vaccine is used to protect against yellow fever, measles, smallpox, etc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ype of vaccination that is used to protect against bacterial diseases such as poliomyelitis, typhoid fever and diphther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passive immunization perform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re any complications associated with passive immuniz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new achievements in active immuniz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immunization present any risk to the recipi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he nouns to the following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ed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words in the text that mean the opposite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u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following Conditional Sent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atient had been given the vaccine,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he has a temperature,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ould feel fine if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ess she had listened to the doctor’s advice,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were a psychiatrist,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on’t be able to operate on a patient if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THE, A or AN where necessa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zation is.................method of stimulating resistance in.............human body to.................specific dis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ctive immunization, all or................part of..............disease-causing microorganism or.................modified product of....................microorganism is injected into..................body to make..................immune system respond defens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immunizing agents provide.................complete protection against.....................disease but other agents provide.....................partial protection, meaning that...................immunized person can contract...................disease but in.....................less sever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to make......................vaccine that confers active immunization, scientists use.....................organism or..................part of one that has been modified so that it has.................low risk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Dusica Lazic</cp:lastModifiedBy>
  <dcterms:modified xsi:type="dcterms:W3CDTF">2023-09-12T21:15:52Z</dcterms:modified>
  <cp:revision>23</cp:revision>
  <dc:subject/>
  <dc:title>Slide 1</dc:title>
</cp:coreProperties>
</file>